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E79D-6D94-46DA-8B49-97BC6F6051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5E9-D837-4166-B7EB-C475BD1B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78C-1B18-4EA9-89A6-A14DA927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F2B-290A-4004-BEE3-336A2D12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EB7-173E-4E97-BB20-CDD1438C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64E-1C9B-4608-B172-A8E2B08B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D4F-9D3E-4142-B8E4-D0927E53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6E7-93F8-4AF5-AD6E-C41CD017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0C7-683F-4622-A30C-950F1971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767-87F4-47E2-B7FE-4526781F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BF2-2EC8-4532-A935-117152C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4C8-0020-49D6-8810-3364BC5F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A0A-E8C7-4CB6-A262-04410F7B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1BAE-94EF-4EAC-A4B6-049499107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s 1 &amp; 2,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&amp; 2 –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2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61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533520" y="2174760"/>
            <a:ext cx="8381880" cy="2445480"/>
            <a:chOff x="533520" y="2174760"/>
            <a:chExt cx="8381880" cy="2445480"/>
          </a:xfrm>
        </p:grpSpPr>
        <p:sp>
          <p:nvSpPr>
            <p:cNvPr id="70" name="Text Box 5"/>
            <p:cNvSpPr/>
            <p:nvPr/>
          </p:nvSpPr>
          <p:spPr>
            <a:xfrm>
              <a:off x="882720" y="2576520"/>
              <a:ext cx="4222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nd has a higher melting point than the alkali metal in the same peri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533520" y="2174760"/>
              <a:ext cx="8381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ach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ne earth metal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is denser and hard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7"/>
          <p:cNvSpPr/>
          <p:nvPr/>
        </p:nvSpPr>
        <p:spPr>
          <a:xfrm>
            <a:off x="1570680" y="685800"/>
            <a:ext cx="452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ne Ear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to the alkali metals are the alkaline ear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33520" y="45370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aline earth metals are reactive, but not as reactive as the alkali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2"/>
          <p:cNvPicPr/>
          <p:nvPr/>
        </p:nvPicPr>
        <p:blipFill>
          <a:blip r:embed="rId1"/>
          <a:stretch/>
        </p:blipFill>
        <p:spPr>
          <a:xfrm>
            <a:off x="5511960" y="2666880"/>
            <a:ext cx="2793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4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30Z</dcterms:modified>
  <cp:revision>7</cp:revision>
  <dc:subject/>
  <dc:title>Group 1, the Alkali Metals</dc:title>
</cp:coreProperties>
</file>